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482-AAEB-4DDC-89EB-4EF4859E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E74-8DCD-464D-BE90-4CABF075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3BFF7-6DBB-4CCE-911D-30DE0ECB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D9C7E-317B-44C6-B002-551CC3A5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A58BE-FDF1-4406-95A8-8ECC1EFB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8C31C-228D-46BA-9FE7-36A65E3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F011D-76E7-46C9-800F-812E32C0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00CE7-E1FA-43E4-BBC2-A58253E3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1CE14-B2EE-4101-A0F2-D532C5A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38077-C541-445C-9776-98ACBEBF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17BF2-EB80-43E8-9940-DB1C520D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B7A9C-256D-4CC7-813F-A75BF1C1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9AB-9B8F-4365-99A9-AB4B00C1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6C909-6A64-4381-A28F-837A85A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2394E-C94A-4EBE-B138-2A735042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08756-7A42-4131-879C-499EE8D7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AEDA3-CD76-43D7-B32C-20573391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1DF48-5353-4A49-A904-168649D5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BCA52-7241-4B0E-A328-1BEEF0E3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70A5C-B3F5-4D44-ABC3-56B6C52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F4D08-C1E9-4807-88A2-90A15DA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F332A-DEA7-4883-BD1E-C15D19FA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DB452-C42E-4248-9B74-9A515A81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40B-BBA2-4D39-8361-DD68D8CF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C072D-2F6E-489A-9071-6D74F63B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729FC-75F0-4C41-A7A0-E8E243C7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3727B-CDDD-4E42-ADDA-BC9E3E0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0CBCA-EDC6-4693-89EE-1D23A494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A62E3-B87C-4838-93ED-74FF459E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59AD2-A160-4026-8FE0-E4F7807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914A1-E6EB-4F17-92F7-FF3A5DB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CFD05-1AC5-4329-BD90-308236A4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B1B1E-4542-479A-859B-2B42806B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CE7E0-BE1B-4340-93EE-024A216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A60-FC52-4944-A2DE-B2A50877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0C655-A44F-4D96-8D9B-022B26C1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B26C8-355D-4FEA-91CA-E58E6E38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797ED-DADA-44AE-B722-760C525B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51411-721B-4B1D-9822-89E4CE65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01B0C-74A2-4215-B511-8974D29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3CEAE-705F-4911-81C0-0E95AE46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F1735-019A-41A2-8FB3-3DD8D243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CCF24-00B2-4070-945D-5083636E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3AC0C-5F77-4451-B4D6-5AF3CB06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A7CDF-E244-41CA-8BE6-E6DC447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BFDD-E23F-47B3-96E8-2BED2814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D1EBB-BF13-4C2B-9B51-265AF8E2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1BDCA-2C1D-4ACB-B27A-364194E4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974F7-322D-4F11-9B71-D17D291D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95685-DBE5-4E26-A0B5-E27ABCF5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9CF37-3D56-4A7D-8406-BB0ACFC9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51621-3DC1-4C3F-8CA4-78C61C10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01009-5051-4B68-A973-7CF58066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31297-85B1-4056-8FB9-9968595F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5256C-4345-49D0-B54B-34924374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B6242-D339-4CFD-977E-262B1FF3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2128-E061-43E3-A63F-693588CA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9D0A0-1F1F-4172-9D03-3CB8885E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B9824-916B-4A58-9E40-43B7942F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82621-0D3C-4E40-A1D4-D2A845B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9F544-8D48-4FBF-8BD8-BF4C2674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055AC-3A11-4B44-B0F3-EF34EDA6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FFAC3-EF70-4A78-9991-888CED4D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9AE88-364B-4B50-8F7E-40271CCD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C969D-C633-470D-BEE4-C3F70061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22293-3E45-4AEC-B7A3-509B275E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8B5DB-57CC-41ED-BFB5-C7601FBC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BA68-24DC-41A3-A87D-50722056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7A444-1034-4819-BC71-A3A7566B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11AAD-9AA1-49DC-971B-5CD61850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52EF3-67CC-4681-8F4F-0AC2DF6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F0BC2-1963-4D4B-9C28-4C17F267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325A4-EB60-46EC-8393-947CE549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2D94D-6CF9-481C-BBC7-EC3E0EF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5FB7D-83F7-4EF7-9794-C928AA3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D9455-783A-478E-B312-3DE16DC8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F757C-063D-4FB0-BDBD-71D3441B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C3225-BD11-4C78-A6BD-FEE16995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61B5-DB6B-4335-B782-F9173CD2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67EE6-7537-4901-8C63-F6D7C389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4A94E-EDFF-4223-A3E3-7415A8E7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7FB31-9312-49AD-B2E0-4A030908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EB5EE-5C43-4442-9D1A-86BD3737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D01EE-7C86-4897-968E-E7E6CFCD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FD253-D390-4E3E-9F21-20A7779A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8DEBD-8855-43D0-830E-4E953385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4A5EF-314B-4949-89DA-2E0A6E7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847CE-D766-42B5-8F56-8EF423D5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74B03-D8F9-42FD-AEF6-383C7CC9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01C7-52D7-48F7-8C4F-99377119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BFA30-2C13-40C9-866F-EDBEDC0E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25B27-793A-4211-A29F-AD34131A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3D3D2-706E-4307-B707-E3F75C72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DD11B-E097-44C0-BD20-827AAB3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98755-1DBF-4487-846A-C43A91B9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FAD87-E4B2-430A-BA31-B8A14C52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2F382-E3F1-4CD7-A895-76301E81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16E3C-4830-43AF-8ED1-D4C3D23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AC720-E6ED-4B95-ACFF-E3FBCAD3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E7705-B8C0-44F1-99A5-45496511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7D71-A983-4503-B04C-DE3C88CA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A70C4-A688-4F6F-A953-26F8EF93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EE620-2BDF-4854-85B1-2FC90638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BDE62-A17C-4021-9BBC-EF93E665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662053-C73D-44AD-B170-CE09F682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792D1-B6E2-4708-8BEC-03B9471E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B01885-595F-423D-8219-E6568B79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F875C-68BA-43F8-A562-61B92AAE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131D9-697B-41CF-A82B-31E994DA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9D501-66A9-409B-BAE9-8A5B3AB9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44D21C-3AA1-41EF-97C2-993FF76A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946-B10D-4822-ABC9-2A4FD98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621A-1296-422D-A9F9-3554840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FAD81-E95A-401F-9F2F-DDB755A5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0175D-EA02-4172-A40B-BCB5227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E45E8-1DB8-4929-967A-F370BE83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A1D12-905C-4970-9A4A-F6219085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3EA8B-BB51-4862-8915-B313F27A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D20BD-4345-4141-A07B-D93D916D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F42571-B5FC-44AD-BD08-B3EE2276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ED94C4-86EC-410A-8322-13E1E5E4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D9E7E-FFBB-4137-A1E4-13C19FD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34676-0E38-45A4-82D4-D6CCF9AE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03BF-E492-4018-A6C5-9CC1E4C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FA1D50-9134-42F7-B988-1F675260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928AB-F818-4C0A-85C4-BB09D9E5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8B942A-1642-452B-B3F2-A311930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E9848-0F74-4EED-ACC6-7277AAAC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5C7BE-2755-4FBE-83AA-59ED706A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24241-B328-45A6-B303-A3E87ADC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7C679-FD97-487B-A2B7-6067AD39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71E72C-68A2-40A4-8E27-5EFBAE7C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79ADF-C5D5-43F1-A4BB-7EE92749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E7065F-3D08-4258-B860-CC7B7C97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C8B3-38DD-420C-B562-0622C854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5940D-D10B-4452-8869-AF7BDC1F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BB618A-6A2F-4BC7-AB1D-6F6D34F4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2618F7-601E-4B76-9E5B-CA29A2AD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76C61-1D53-430B-9883-0230BFB5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FCEFA-16FA-4484-BB5E-EF79D4AA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FDD38C-AF49-4F2F-8936-91D1CD78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B3282-87F0-43CE-A12C-E2116D53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2D7EA7-B1F7-46FB-BC5A-08D882B8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0F166-4DAB-4F2F-8CF8-17E953DD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C34BE-93E9-4CCB-ADF8-8E756BAE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BFAC-FFEF-4D6B-9AE6-3B864790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1A8FBB-4314-4C79-A758-86831175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1D6BD-4242-41E7-8864-535264E6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9388B-ACA3-4B73-8BEF-7DB08863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CFD0A-8C65-4341-8F8C-9486F582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F5D77C-FF0E-4BBF-BC85-9FE1821A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A4C287-24B7-4023-A427-4CF3B28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FE7AE-7D3F-472D-8D3E-AC12A6B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681CD9-29F1-46B5-8766-5AA06A19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8D193-DDF1-4F29-B9E9-E42D270C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D765D9-91D4-4985-8F84-00A93CD9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518D-FE39-4B4E-BBB1-656C8C86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38C50-3E9D-4CB5-BDCA-C9C1CA40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F03F4-8626-4DCE-AAFC-E7856BAF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22AD7-35E2-4E81-91F8-80E9955B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54E51-89F8-4078-A283-FAE5036D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DED1D5-F117-4AFA-BA80-531CB1E4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6C9DD-3432-4C0F-85AA-BA638BF5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D9E51E-59F5-42C6-B611-CBB19EE1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877B05-4609-43B5-A1F1-1AC57746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C0BEF0-D56F-41FB-8B20-485FC762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795BC-DBF8-4230-9B82-298DD8E1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FF35-D7CA-44E0-B9D9-9B977F06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38205-4218-4CCD-B50C-BB77F1BC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73AA70-DC58-4C3B-9A9D-1630979E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AF11B1-554E-4B0C-B15F-B2720024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D2ED-2B07-4CD4-8806-9C072F6A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5861-AC08-46A0-8458-48C3C0B5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CE6B-27D9-486D-A40F-542DFF54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49A6-2044-40EA-A702-7129D9D3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E66-91E0-4B11-BA0B-3AB43D7C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CE07-D0FC-4320-85FB-9D6C983F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3669-373A-40FB-811F-486879E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8750-B3EA-4108-9131-4697E65D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00810-945C-4267-97B8-C5EF91A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FD74-5989-47D9-9019-79B98FD6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72B8-C621-4D46-8755-EB26AADB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70C5-71B6-4B04-8F83-40C47E69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A0ED-6704-4547-AC13-86EE9DFD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B1B2D-F6F4-4955-B61D-5D19D2E4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6040E-D4A8-42D9-AC47-4890A20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136-E829-4F9C-82E4-0264E0E5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A9E5-218E-4FEA-ADA9-B2DAB178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BA821-7391-4AC5-92CA-1A3F686E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109B-1530-4095-A568-535AAB1F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5028-1DC7-49DD-99DF-5B75A01C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CF11-A745-4F5B-B931-C22FAE2A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05842-2809-4304-8FD2-1DC84A9C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C4B7-9333-46BD-B362-EBEC0226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47B0D-2D46-4C23-A717-AD931521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019B-66EC-4A1E-B1AF-F37036BB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7407F-DE7A-4690-B193-78841BD9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FEC-F781-4044-ADFB-8D3AAF05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61C1E-FDC6-4230-9135-B5418889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3D3F6-4526-4BA4-A4E8-900B26B9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0564-A23B-401B-811A-316AC939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13DD7-41BE-4904-9A44-B1CC6351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FC8F7-29F1-4F0C-AC1D-0C5B422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8E48-A378-47B1-87F4-987BFF75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F73AD-5070-415F-830E-1F2B899A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EC0A-5952-4AE2-9318-956C2FB3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E80C7-5E4B-4EA7-92C6-4317FB33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32AE2-9DF1-402E-87FC-5E9EA56E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1FF-0016-4A7B-93E4-328035E0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B276F-E218-4C31-9F07-6F5CDF5B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AB7FB-A3A2-41ED-914D-FBFA2FC4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521B6-6CF4-409D-89BA-3ADFD517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066C-FEAA-4518-AA65-D2759C60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A679A-E1BF-4C9B-B4E8-04774613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9CFDA-5A77-4243-98C7-F841968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6C430-5EB4-43E5-827C-F290E8E6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86E6F-2DF3-45F8-9969-AC08991B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2B70-4B7A-4B40-92D9-A0EDB94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05A7F-22F0-4A38-B1F4-F121886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878-84D5-4046-8F36-9F7E71E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E6038-DEE2-481A-BA49-9B74EC3F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EF9DF-F383-4FBD-8B67-60394E14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6CBFE-9456-424B-862D-DEABF5BD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50E8D-83D7-49FD-B843-F4047553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3F9C0-6BBA-448C-86E9-493296F9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B624-3D0C-4FB2-9561-DC907650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31E6-8801-47FF-AFEC-B1A25D45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0CFF7-7325-455A-BC96-AA83936D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2FFD5-4932-44D6-BA48-D0394DC5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302CF-E268-427E-8185-F426A2CA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ED5-1E17-474D-8B14-5217A63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C9545-E282-4AFA-83F9-2DDEC027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FE971-0C22-4118-908A-FF881449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0DE5B-0CBC-4A32-877F-960A39B8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F7613-108E-4B0C-8DE4-01BEF2F7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841A1-4E18-492C-9946-AFEBD213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3A683-42AB-4041-81DE-1FE21AE2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7977E-F6C1-4587-AA43-8BD83845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8A9CD-3A23-4F10-B31F-E2FA44EE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636E3-FFAA-42D3-83C5-7CC39DE3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B63D6-C301-4D6C-847F-03A81F3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7B6-1469-42E8-8637-C42022D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BF1B-7D9D-4CD4-89BF-6556F80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9EA68-93F7-4645-B50D-4B2BAD8F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53751-1788-4D5F-8088-0DA2C7B6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FD06A-5343-423E-94DC-DA9B58F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E51A4-94BB-4EFB-96AA-CF519BEC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7F513-C804-4F5A-A0B3-BBEC3AA4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D472F-06BE-4025-90FE-60041701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06DCA-8316-4EB6-A0B5-29754055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1C551-C8DA-4A3D-A328-D60E28FC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7ADC4-0047-4BE3-A78E-2F124541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E89D-EC24-4C3E-992A-744E9E1D3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496-9EA0-41E6-B4E0-3B1172042C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B480-4B6F-42F8-B206-E572A2CBF5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74E7-DEB0-4B20-A6A0-D1BCA2B5C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D350-B998-4A0A-A4B3-9B403F817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2773-C1B1-470F-9A8E-451FD9DD0A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2E40-0183-4137-8A9B-EE1B85B38A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A53B-D13B-4CE9-B03E-3E47DFEE20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F7F4-B18E-43DF-992D-94614839D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6FE6-A29B-4063-93DC-9CD68D13F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401B-B9FD-4C65-839B-6685C74060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3DA8-76A6-4FA9-A246-5BA0060FEF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AADB-EA3D-49D3-995E-19A297991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862F-80CC-487A-9C97-762266AD9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4E35-1DC0-436D-A3A4-AE7617869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23B-C33F-443D-985B-DC855634B3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AB51-DDF8-466B-9C04-12CCD9F9C7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2960-84C4-49B0-B65C-1443D5B87F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EA35-A672-4F4A-9963-025F06DF1A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9685-6B60-4355-B098-214BA85AB0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B13E-A42D-4D79-949A-0FB24A3C6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1979-01AA-4A01-8F12-C601B61E7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3B0A-12C5-40C9-85F3-667ACEE89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26EF-7DF3-4E2C-86DC-C4E4CB2382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4E13-FF48-464A-A8D9-5FB29305E8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08C3-D932-48E8-998D-D5F957838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458-9BEF-4101-8BB6-51E4FB9AA3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AC7C-3EEF-4299-BA99-F223F6D16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CA36-D8D4-48BA-BEF3-614FE10A9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537-346B-45B1-B1D0-1E7E322F5D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4B8-0372-4996-92D7-44DE284D41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03BA-61ED-4203-A738-D841582D68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B7E0-24D2-496B-9291-3E8B741F12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4003-4A80-4425-9D74-05B92E1584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F19F-4208-4AC3-9509-4DA45F3AF1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286B-C3C0-4D6E-9F86-FFA0B1A30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A8F4-42A9-4D28-BB3E-EF47074BDD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2BA4-506C-46F6-A70F-C711BF30C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79C-76E5-40FF-B5CA-71966DE948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343F-6AEA-4BA2-9A49-3723649953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76040" y="3000240"/>
            <a:ext cx="87919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1"/>
          <a:stretch/>
        </p:blipFill>
        <p:spPr>
          <a:xfrm>
            <a:off x="509760" y="1571760"/>
            <a:ext cx="8124480" cy="3714480"/>
          </a:xfrm>
          <a:prstGeom prst="rect">
            <a:avLst/>
          </a:prstGeom>
          <a:ln w="0">
            <a:noFill/>
          </a:ln>
        </p:spPr>
      </p:pic>
      <p:sp>
        <p:nvSpPr>
          <p:cNvPr id="1066" name="矩形 2"/>
          <p:cNvSpPr/>
          <p:nvPr/>
        </p:nvSpPr>
        <p:spPr>
          <a:xfrm>
            <a:off x="1000080" y="1643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3"/>
          <p:cNvSpPr/>
          <p:nvPr/>
        </p:nvSpPr>
        <p:spPr>
          <a:xfrm>
            <a:off x="928800" y="285768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604800" y="890640"/>
            <a:ext cx="7934400" cy="5076720"/>
          </a:xfrm>
          <a:prstGeom prst="rect">
            <a:avLst/>
          </a:prstGeom>
          <a:ln w="0">
            <a:noFill/>
          </a:ln>
        </p:spPr>
      </p:pic>
      <p:sp>
        <p:nvSpPr>
          <p:cNvPr id="1069" name="矩形 2"/>
          <p:cNvSpPr/>
          <p:nvPr/>
        </p:nvSpPr>
        <p:spPr>
          <a:xfrm>
            <a:off x="1071720" y="928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3"/>
          <p:cNvSpPr/>
          <p:nvPr/>
        </p:nvSpPr>
        <p:spPr>
          <a:xfrm>
            <a:off x="1000080" y="3429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>
            <a:off x="1071720" y="4643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95360" y="1028880"/>
            <a:ext cx="8153280" cy="48006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57184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0040" y="909720"/>
            <a:ext cx="8143920" cy="50385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928800" y="10000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257184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928800" y="42861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2071800" y="785880"/>
            <a:ext cx="1643040" cy="214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71600" y="1790640"/>
            <a:ext cx="8200800" cy="327672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928800" y="1857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785880" y="342900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495360" y="928800"/>
            <a:ext cx="8153280" cy="5000400"/>
          </a:xfrm>
          <a:prstGeom prst="rect">
            <a:avLst/>
          </a:prstGeom>
          <a:ln w="0">
            <a:noFill/>
          </a:ln>
        </p:spPr>
      </p:pic>
      <p:sp>
        <p:nvSpPr>
          <p:cNvPr id="1034" name="矩形 2"/>
          <p:cNvSpPr/>
          <p:nvPr/>
        </p:nvSpPr>
        <p:spPr>
          <a:xfrm>
            <a:off x="928800" y="10000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3"/>
          <p:cNvSpPr/>
          <p:nvPr/>
        </p:nvSpPr>
        <p:spPr>
          <a:xfrm>
            <a:off x="928800" y="3000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210520" cy="45435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2" descr=""/>
          <p:cNvPicPr/>
          <p:nvPr/>
        </p:nvPicPr>
        <p:blipFill>
          <a:blip r:embed="rId2"/>
          <a:stretch/>
        </p:blipFill>
        <p:spPr>
          <a:xfrm>
            <a:off x="642960" y="5500800"/>
            <a:ext cx="8029440" cy="790560"/>
          </a:xfrm>
          <a:prstGeom prst="rect">
            <a:avLst/>
          </a:prstGeom>
          <a:ln w="0">
            <a:noFill/>
          </a:ln>
        </p:spPr>
      </p:pic>
      <p:sp>
        <p:nvSpPr>
          <p:cNvPr id="1038" name="矩形 3"/>
          <p:cNvSpPr/>
          <p:nvPr/>
        </p:nvSpPr>
        <p:spPr>
          <a:xfrm>
            <a:off x="2357280" y="2789280"/>
            <a:ext cx="2000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5307120" y="3629160"/>
            <a:ext cx="1714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5"/>
          <p:cNvSpPr/>
          <p:nvPr/>
        </p:nvSpPr>
        <p:spPr>
          <a:xfrm>
            <a:off x="4143240" y="4429080"/>
            <a:ext cx="2714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6"/>
          <p:cNvSpPr/>
          <p:nvPr/>
        </p:nvSpPr>
        <p:spPr>
          <a:xfrm>
            <a:off x="1857240" y="4857840"/>
            <a:ext cx="142884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7"/>
          <p:cNvSpPr/>
          <p:nvPr/>
        </p:nvSpPr>
        <p:spPr>
          <a:xfrm>
            <a:off x="1285920" y="5478480"/>
            <a:ext cx="3143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3" descr=""/>
          <p:cNvPicPr/>
          <p:nvPr/>
        </p:nvPicPr>
        <p:blipFill>
          <a:blip r:embed="rId1"/>
          <a:stretch/>
        </p:blipFill>
        <p:spPr>
          <a:xfrm>
            <a:off x="466560" y="1366920"/>
            <a:ext cx="8210880" cy="412416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3857760" y="221472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5143680" y="221148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6572160" y="221472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5"/>
          <p:cNvSpPr/>
          <p:nvPr/>
        </p:nvSpPr>
        <p:spPr>
          <a:xfrm>
            <a:off x="4071960" y="342900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6"/>
          <p:cNvSpPr/>
          <p:nvPr/>
        </p:nvSpPr>
        <p:spPr>
          <a:xfrm>
            <a:off x="5286240" y="3429000"/>
            <a:ext cx="857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7"/>
          <p:cNvSpPr/>
          <p:nvPr/>
        </p:nvSpPr>
        <p:spPr>
          <a:xfrm>
            <a:off x="6357960" y="3429000"/>
            <a:ext cx="192888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8"/>
          <p:cNvSpPr/>
          <p:nvPr/>
        </p:nvSpPr>
        <p:spPr>
          <a:xfrm>
            <a:off x="928800" y="385776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9"/>
          <p:cNvSpPr/>
          <p:nvPr/>
        </p:nvSpPr>
        <p:spPr>
          <a:xfrm>
            <a:off x="1000080" y="4643280"/>
            <a:ext cx="857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0"/>
          <p:cNvSpPr/>
          <p:nvPr/>
        </p:nvSpPr>
        <p:spPr>
          <a:xfrm>
            <a:off x="2357280" y="4643280"/>
            <a:ext cx="8575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1"/>
          <p:cNvSpPr/>
          <p:nvPr/>
        </p:nvSpPr>
        <p:spPr>
          <a:xfrm>
            <a:off x="3929040" y="464328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533520" y="2205000"/>
            <a:ext cx="8076960" cy="244800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4665600" y="2651040"/>
            <a:ext cx="142884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6751800" y="259704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7929720" y="2571840"/>
            <a:ext cx="71424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"/>
          <p:cNvSpPr/>
          <p:nvPr/>
        </p:nvSpPr>
        <p:spPr>
          <a:xfrm>
            <a:off x="888840" y="3060720"/>
            <a:ext cx="178596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6"/>
          <p:cNvSpPr/>
          <p:nvPr/>
        </p:nvSpPr>
        <p:spPr>
          <a:xfrm>
            <a:off x="3214800" y="3000240"/>
            <a:ext cx="857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7"/>
          <p:cNvSpPr/>
          <p:nvPr/>
        </p:nvSpPr>
        <p:spPr>
          <a:xfrm>
            <a:off x="2286000" y="385776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8"/>
          <p:cNvSpPr/>
          <p:nvPr/>
        </p:nvSpPr>
        <p:spPr>
          <a:xfrm>
            <a:off x="5072040" y="385776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9"/>
          <p:cNvSpPr/>
          <p:nvPr/>
        </p:nvSpPr>
        <p:spPr>
          <a:xfrm>
            <a:off x="6215040" y="385776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10"/>
          <p:cNvSpPr/>
          <p:nvPr/>
        </p:nvSpPr>
        <p:spPr>
          <a:xfrm>
            <a:off x="7500960" y="385776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6300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1:0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